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0E3B-E5DA-48D6-9965-B95A22137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ACE-7133-44E7-9887-A9BCF37D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1B3-26A7-48DE-8645-49CEFDB9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CC2-8EB2-43C8-B55B-6F31CC87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7E9-4CA6-46C9-8368-56482296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67C-6600-4C16-B650-D4994C9D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6F7-F40D-4878-8EEA-8D336302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1F2-3094-4F3C-AF60-6CC5D7F3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9A5-7C12-461E-B681-D302090D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555-B2A6-44A8-A348-D4A4CFF7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DBF-BCF4-4B46-AE28-97622CF8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5EE-CD40-40A9-9C87-E5CE4196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09E-82ED-4D80-9280-01D520F8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7BC6-99B4-4A7E-A369-9731D538C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646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934320" cy="365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s in Fitzgerald’s day weren’t so different from teens in the ‘80s or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what did they do that was considered, trendy, rebellious, taboo, controversi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34290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wore short, straight  dresses and cut their ha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shocking and rebellious- and it got atten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was a big     no-no to these children of the conservative Victoria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Victorians"/>
          <p:cNvPicPr/>
          <p:nvPr/>
        </p:nvPicPr>
        <p:blipFill>
          <a:blip r:embed="rId1"/>
          <a:stretch/>
        </p:blipFill>
        <p:spPr>
          <a:xfrm>
            <a:off x="6399360" y="3352680"/>
            <a:ext cx="266832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_flapper"/>
          <p:cNvPicPr/>
          <p:nvPr/>
        </p:nvPicPr>
        <p:blipFill>
          <a:blip r:embed="rId2"/>
          <a:stretch/>
        </p:blipFill>
        <p:spPr>
          <a:xfrm>
            <a:off x="304920" y="1371600"/>
            <a:ext cx="24019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o, as you study this story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440" y="1218960"/>
            <a:ext cx="7010280" cy="5257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what the popular teens are doing, how they behave and how they interact with 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attention to the main charact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Marjorie, Warren and Bernice each lik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you know people like these charact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a time when you may have done something to be more popular, or to be liked m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at so different from Berni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 it work out differently for yo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bernice_art"/>
          <p:cNvPicPr/>
          <p:nvPr/>
        </p:nvPicPr>
        <p:blipFill>
          <a:blip r:embed="rId1"/>
          <a:stretch/>
        </p:blipFill>
        <p:spPr>
          <a:xfrm>
            <a:off x="1752480" y="568440"/>
            <a:ext cx="7162920" cy="51130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dur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Jazz Ag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ion l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egal parties, underground nightclubs serving alco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B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ts of new money, young and r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tainment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zz- wild music that is on-the-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s- depicting, among other socially taboo subjects, parties and sex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”</a:t>
            </a: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1640" y="2742840"/>
            <a:ext cx="426708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ory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ing to fit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post"/>
          <p:cNvPicPr/>
          <p:nvPr/>
        </p:nvPicPr>
        <p:blipFill>
          <a:blip r:embed="rId1"/>
          <a:stretch/>
        </p:blipFill>
        <p:spPr>
          <a:xfrm rot="21385800">
            <a:off x="228240" y="2590560"/>
            <a:ext cx="4419720" cy="336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Let’s Brainstorm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218960"/>
            <a:ext cx="6934320" cy="5715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teens do TODAY, in terms of fashion and image, that could be consider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nd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bellio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o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versi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et’s generate a list together as a cla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ho is the influence for these trends &amp; fads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5h3h_bowa_001"/>
          <p:cNvPicPr/>
          <p:nvPr/>
        </p:nvPicPr>
        <p:blipFill>
          <a:blip r:embed="rId1"/>
          <a:stretch/>
        </p:blipFill>
        <p:spPr>
          <a:xfrm>
            <a:off x="228600" y="228600"/>
            <a:ext cx="277956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428px-Snoop_Dogg_Hawaii"/>
          <p:cNvPicPr/>
          <p:nvPr/>
        </p:nvPicPr>
        <p:blipFill>
          <a:blip r:embed="rId2"/>
          <a:stretch/>
        </p:blipFill>
        <p:spPr>
          <a:xfrm>
            <a:off x="6313320" y="0"/>
            <a:ext cx="2830680" cy="39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ayz"/>
          <p:cNvPicPr/>
          <p:nvPr/>
        </p:nvPicPr>
        <p:blipFill>
          <a:blip r:embed="rId3"/>
          <a:stretch/>
        </p:blipFill>
        <p:spPr>
          <a:xfrm>
            <a:off x="3886200" y="0"/>
            <a:ext cx="222264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iley-cyrus-hannah-400a062107"/>
          <p:cNvPicPr/>
          <p:nvPr/>
        </p:nvPicPr>
        <p:blipFill>
          <a:blip r:embed="rId4"/>
          <a:stretch/>
        </p:blipFill>
        <p:spPr>
          <a:xfrm>
            <a:off x="5943600" y="3352680"/>
            <a:ext cx="262908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paris-hilton-louis-vuitton"/>
          <p:cNvPicPr/>
          <p:nvPr/>
        </p:nvPicPr>
        <p:blipFill>
          <a:blip r:embed="rId5"/>
          <a:stretch/>
        </p:blipFill>
        <p:spPr>
          <a:xfrm>
            <a:off x="3429000" y="2514600"/>
            <a:ext cx="247968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usher-lloyd"/>
          <p:cNvPicPr/>
          <p:nvPr/>
        </p:nvPicPr>
        <p:blipFill>
          <a:blip r:embed="rId6"/>
          <a:stretch/>
        </p:blipFill>
        <p:spPr>
          <a:xfrm>
            <a:off x="0" y="4664160"/>
            <a:ext cx="3657600" cy="219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o who set the trends of earlier generations?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influence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1980+madonna"/>
          <p:cNvPicPr/>
          <p:nvPr/>
        </p:nvPicPr>
        <p:blipFill>
          <a:blip r:embed="rId1"/>
          <a:stretch/>
        </p:blipFill>
        <p:spPr>
          <a:xfrm>
            <a:off x="1981080" y="1905120"/>
            <a:ext cx="2641680" cy="32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madonna2"/>
          <p:cNvPicPr/>
          <p:nvPr/>
        </p:nvPicPr>
        <p:blipFill>
          <a:blip r:embed="rId2"/>
          <a:stretch/>
        </p:blipFill>
        <p:spPr>
          <a:xfrm>
            <a:off x="1828800" y="1600200"/>
            <a:ext cx="2887560" cy="38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s of make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ed mid-dr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wear becomes “outerwea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gious jewelry tab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madonna2-1"/>
          <p:cNvPicPr/>
          <p:nvPr/>
        </p:nvPicPr>
        <p:blipFill>
          <a:blip r:embed="rId1"/>
          <a:stretch/>
        </p:blipFill>
        <p:spPr>
          <a:xfrm>
            <a:off x="304920" y="1447920"/>
            <a:ext cx="3543120" cy="464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troversial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5" descr="200px-Madmtv1984"/>
          <p:cNvPicPr/>
          <p:nvPr/>
        </p:nvPicPr>
        <p:blipFill>
          <a:blip r:embed="rId1"/>
          <a:stretch/>
        </p:blipFill>
        <p:spPr>
          <a:xfrm rot="20811600">
            <a:off x="304920" y="228240"/>
            <a:ext cx="2655720" cy="387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adonna198440519_400"/>
          <p:cNvPicPr/>
          <p:nvPr/>
        </p:nvPicPr>
        <p:blipFill>
          <a:blip r:embed="rId2"/>
          <a:stretch/>
        </p:blipFill>
        <p:spPr>
          <a:xfrm rot="428400">
            <a:off x="3123720" y="2743200"/>
            <a:ext cx="2857680" cy="37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remios5madonna"/>
          <p:cNvPicPr/>
          <p:nvPr/>
        </p:nvPicPr>
        <p:blipFill>
          <a:blip r:embed="rId3"/>
          <a:stretch/>
        </p:blipFill>
        <p:spPr>
          <a:xfrm rot="21163800">
            <a:off x="6095880" y="1371600"/>
            <a:ext cx="284976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madonna like a virgin 84"/>
          <p:cNvPicPr/>
          <p:nvPr/>
        </p:nvPicPr>
        <p:blipFill>
          <a:blip r:embed="rId4"/>
          <a:stretch/>
        </p:blipFill>
        <p:spPr>
          <a:xfrm>
            <a:off x="228600" y="41148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02:38Z</dcterms:created>
  <dc:creator>PVUSD PVUSD</dc:creator>
  <dc:description/>
  <dc:language>en-US</dc:language>
  <cp:lastModifiedBy>RomaK</cp:lastModifiedBy>
  <dcterms:modified xsi:type="dcterms:W3CDTF">2015-09-02T09:32:59Z</dcterms:modified>
  <cp:revision>14</cp:revision>
  <dc:subject/>
  <dc:title>“Bernice Bobs Her Hair”</dc:title>
</cp:coreProperties>
</file>